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6.wmf" ContentType="image/x-wmf"/>
  <Override PartName="/ppt/media/image12.png" ContentType="image/png"/>
  <Override PartName="/ppt/media/image20.png" ContentType="image/png"/>
  <Override PartName="/ppt/media/image18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wmf" ContentType="image/x-wmf"/>
  <Override PartName="/ppt/media/image13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29.jpeg" ContentType="image/jpeg"/>
  <Override PartName="/ppt/media/image3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BD9-A0C5-406D-B987-8DEBCEBB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57F-F800-4380-A6FC-08F97842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D133-1DAF-4415-8A8C-AF6166ED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0A40-7515-470C-973E-97DBD32C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88D-E930-47FE-A334-A11E3F01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A3AA-93D5-4725-B199-D1B8EF433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5E8A-DC2D-47E9-9166-244D252D8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A3A2-75F9-4381-A459-67A4B9EB5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2837-2860-41DE-9F36-765DFC10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F438-B626-48C9-AF54-C33D9110A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C6A-0CC6-48C6-B2D4-172770E0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BAC-F063-4782-8505-497F222F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F1A1-23D8-454B-B9F3-1ABFFF5A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61E-3B0D-42E4-8AFC-065DA239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C1F6-2D87-4750-94BD-1ECEE684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8B55-F33D-4A5E-867D-4A41725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53BF-1515-44EC-A648-6A7F5D35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5D8B-BB85-45BB-9037-CB7DF293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306-FE89-400C-8FD4-2CE15A5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2880-E3F6-47A4-BBCE-F3FD7944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112-F459-4A8E-8F4A-E48E69D7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E97-9774-433C-9E9D-928B3B6D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ABA-9313-46C2-A216-41225DE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4D59-D485-4C94-94DB-1D82E6C1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98A-4FC7-4147-AD30-736CB169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F373-A8FA-4388-9BCC-D8B053F4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6877-3B79-4BE5-8A18-008364BE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631F-8D8D-41B4-9F5C-17998FB2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6434-479A-49FA-8878-C3D2EAF2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5CE9-3F3D-47B4-9595-FBAB38D0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9AC21-AF51-402C-9F86-7BDE269B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9F6-86B9-4126-95C4-AACFB0C9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3CDF-9311-4794-B7BA-0EC71531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130B4-9BF3-4293-8FE5-8CDBC6B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BC46-A5EE-47CF-B49C-522546AF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DAEB-E795-4076-81BF-B98FBF5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70B8-21F7-4451-9ED5-613B6C96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5D4C-A1E1-4180-87CF-3BCAE12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F63C-1FBC-456E-81BC-2FD7D402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70536-8AD3-4EA1-AD0B-9AB1E348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512F-D4A5-49BA-9DB2-F7C1CE0B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2AE-EF09-4F52-B252-502CDE23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3A6-D068-4461-B6D0-E3C03A0C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4B2-32A5-49C9-8A0E-F73F15F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FDA2-B5E4-41B0-A541-19157A6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E1F-654F-4B4F-8004-4D51E801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7FEA-ECA0-4F62-A5AB-8AF038993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4CDC-1892-4DC8-B441-851D94DFD6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474-06B6-4255-98DF-2C81BD468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3.xml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education" TargetMode="External"/><Relationship Id="rId2" Type="http://schemas.openxmlformats.org/officeDocument/2006/relationships/slide" Target="slide5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hyperlink" Target="http://www.ket.org/trips" TargetMode="External"/><Relationship Id="rId13" Type="http://schemas.openxmlformats.org/officeDocument/2006/relationships/hyperlink" Target="http://www.ket.org/newsquiz" TargetMode="External"/><Relationship Id="rId14" Type="http://schemas.openxmlformats.org/officeDocument/2006/relationships/hyperlink" Target="http://www.ket.org/lincoln" TargetMode="External"/><Relationship Id="rId15" Type="http://schemas.openxmlformats.org/officeDocument/2006/relationships/hyperlink" Target="http://www.ket.org/nationalparks" TargetMode="External"/><Relationship Id="rId16" Type="http://schemas.openxmlformats.org/officeDocument/2006/relationships/hyperlink" Target="http://www.ket.org/arts" TargetMode="External"/><Relationship Id="rId17" Type="http://schemas.openxmlformats.org/officeDocument/2006/relationships/hyperlink" Target="http://www.ket.org/educationmatters" TargetMode="External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et.org/encyclomedia" TargetMode="Externa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mooreketresources.wikispaces.com/" TargetMode="External"/><Relationship Id="rId2" Type="http://schemas.openxmlformats.org/officeDocument/2006/relationships/image" Target="../media/image6.wmf"/><Relationship Id="rId3" Type="http://schemas.openxmlformats.org/officeDocument/2006/relationships/hyperlink" Target="http://www.lmooreketresources.wikispaces.com/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ket.org/educatio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http://www.mission-us.org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gency FB"/>
              </a:rPr>
              <a:t>Exploring the Depths! KET’s New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5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638600" y="874440"/>
            <a:ext cx="3738600" cy="2747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ther Specialized KET Instructional Websites</a:t>
            </a:r>
            <a:br>
              <a:rPr sz="2800"/>
            </a:b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 Black"/>
                <a:hlinkClick r:id="rId1"/>
              </a:rPr>
              <a:t>www.ket.org/educa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Electronic Field Trips: www.ket.org/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sQuiz: http://www.ket.org/news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coln “ I Too am a Kentuckian”:  http://www.ket.org/lincoln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ntucky’s National Parks: http://www.ket.org/nationalpark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Arts Page: http://www.ket.org/art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ucation Matters: http://www.ket.org/educationmatte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link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28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5"/>
          <a:stretch/>
        </p:blipFill>
        <p:spPr>
          <a:xfrm>
            <a:off x="3048120" y="4191120"/>
            <a:ext cx="2361960" cy="12189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2362320" cy="1218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7"/>
          <a:stretch/>
        </p:blipFill>
        <p:spPr>
          <a:xfrm>
            <a:off x="457200" y="5486400"/>
            <a:ext cx="2262240" cy="1219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8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"/>
          <p:cNvPicPr/>
          <p:nvPr/>
        </p:nvPicPr>
        <p:blipFill>
          <a:blip r:embed="rId9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10"/>
          <a:stretch/>
        </p:blipFill>
        <p:spPr>
          <a:xfrm>
            <a:off x="3048120" y="5486400"/>
            <a:ext cx="2361960" cy="121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11"/>
          <a:stretch/>
        </p:blipFill>
        <p:spPr>
          <a:xfrm>
            <a:off x="5715000" y="5486400"/>
            <a:ext cx="236232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5"/>
          <p:cNvSpPr/>
          <p:nvPr/>
        </p:nvSpPr>
        <p:spPr>
          <a:xfrm>
            <a:off x="579132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 Std"/>
              </a:rPr>
              <a:t>Arts on KE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3" name="Action Button: Custom 16">
            <a:hlinkClick r:id="rId12"/>
          </p:cNvPr>
          <p:cNvSpPr/>
          <p:nvPr/>
        </p:nvSpPr>
        <p:spPr>
          <a:xfrm>
            <a:off x="3581280" y="1752480"/>
            <a:ext cx="2057400" cy="304920"/>
          </a:xfrm>
          <a:custGeom>
            <a:avLst/>
            <a:gdLst>
              <a:gd name="textAreaLeft" fmla="*/ 19440 w 2057400"/>
              <a:gd name="textAreaRight" fmla="*/ 2037960 w 2057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5596" h="21600">
                <a:moveTo>
                  <a:pt x="0" y="0"/>
                </a:moveTo>
                <a:lnTo>
                  <a:pt x="145596" y="0"/>
                </a:lnTo>
                <a:lnTo>
                  <a:pt x="145596" y="21600"/>
                </a:lnTo>
                <a:lnTo>
                  <a:pt x="0" y="21600"/>
                </a:lnTo>
                <a:close/>
              </a:path>
              <a:path fill="lightenLess" w="145596" h="21600">
                <a:moveTo>
                  <a:pt x="0" y="0"/>
                </a:moveTo>
                <a:lnTo>
                  <a:pt x="145596" y="0"/>
                </a:lnTo>
                <a:lnTo>
                  <a:pt x="144196" y="1400"/>
                </a:lnTo>
                <a:lnTo>
                  <a:pt x="1400" y="1400"/>
                </a:lnTo>
                <a:close/>
              </a:path>
              <a:path fill="darken" w="145596" h="21600">
                <a:moveTo>
                  <a:pt x="145596" y="0"/>
                </a:moveTo>
                <a:lnTo>
                  <a:pt x="145596" y="21600"/>
                </a:lnTo>
                <a:lnTo>
                  <a:pt x="144196" y="20200"/>
                </a:lnTo>
                <a:lnTo>
                  <a:pt x="144196" y="1400"/>
                </a:lnTo>
                <a:close/>
              </a:path>
              <a:path fill="darkenLess" w="145596" h="21600">
                <a:moveTo>
                  <a:pt x="145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4196" y="20200"/>
                </a:lnTo>
                <a:close/>
              </a:path>
              <a:path fill="lighten" w="145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Action Button: Custom 17">
            <a:hlinkClick r:id="rId13"/>
          </p:cNvPr>
          <p:cNvSpPr/>
          <p:nvPr/>
        </p:nvSpPr>
        <p:spPr>
          <a:xfrm>
            <a:off x="2362320" y="2133720"/>
            <a:ext cx="3047760" cy="30456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5923" h="21600">
                <a:moveTo>
                  <a:pt x="0" y="0"/>
                </a:moveTo>
                <a:lnTo>
                  <a:pt x="215923" y="0"/>
                </a:lnTo>
                <a:lnTo>
                  <a:pt x="215923" y="21600"/>
                </a:lnTo>
                <a:lnTo>
                  <a:pt x="0" y="21600"/>
                </a:lnTo>
                <a:close/>
              </a:path>
              <a:path fill="lightenLess" w="215923" h="21600">
                <a:moveTo>
                  <a:pt x="0" y="0"/>
                </a:moveTo>
                <a:lnTo>
                  <a:pt x="215923" y="0"/>
                </a:lnTo>
                <a:lnTo>
                  <a:pt x="214524" y="1400"/>
                </a:lnTo>
                <a:lnTo>
                  <a:pt x="1400" y="1400"/>
                </a:lnTo>
                <a:close/>
              </a:path>
              <a:path fill="darken" w="215923" h="21600">
                <a:moveTo>
                  <a:pt x="215923" y="0"/>
                </a:moveTo>
                <a:lnTo>
                  <a:pt x="215923" y="21600"/>
                </a:lnTo>
                <a:lnTo>
                  <a:pt x="214524" y="20200"/>
                </a:lnTo>
                <a:lnTo>
                  <a:pt x="214524" y="1400"/>
                </a:lnTo>
                <a:close/>
              </a:path>
              <a:path fill="darkenLess" w="215923" h="21600">
                <a:moveTo>
                  <a:pt x="215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24" y="20200"/>
                </a:lnTo>
                <a:close/>
              </a:path>
              <a:path fill="lighten" w="215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Action Button: Custom 18">
            <a:hlinkClick r:id="rId14"/>
          </p:cNvPr>
          <p:cNvSpPr/>
          <p:nvPr/>
        </p:nvSpPr>
        <p:spPr>
          <a:xfrm>
            <a:off x="4419720" y="25146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6" name="Action Button: Custom 19">
            <a:hlinkClick r:id="rId15"/>
          </p:cNvPr>
          <p:cNvSpPr/>
          <p:nvPr/>
        </p:nvSpPr>
        <p:spPr>
          <a:xfrm>
            <a:off x="3657600" y="2895480"/>
            <a:ext cx="3657600" cy="228600"/>
          </a:xfrm>
          <a:custGeom>
            <a:avLst/>
            <a:gdLst>
              <a:gd name="textAreaLeft" fmla="*/ 14760 w 3657600"/>
              <a:gd name="textAreaRight" fmla="*/ 3642840 w 3657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91" h="21600">
                <a:moveTo>
                  <a:pt x="0" y="0"/>
                </a:moveTo>
                <a:lnTo>
                  <a:pt x="345091" y="0"/>
                </a:lnTo>
                <a:lnTo>
                  <a:pt x="345091" y="21600"/>
                </a:lnTo>
                <a:lnTo>
                  <a:pt x="0" y="21600"/>
                </a:lnTo>
                <a:close/>
              </a:path>
              <a:path fill="lightenLess" w="345091" h="21600">
                <a:moveTo>
                  <a:pt x="0" y="0"/>
                </a:moveTo>
                <a:lnTo>
                  <a:pt x="345091" y="0"/>
                </a:lnTo>
                <a:lnTo>
                  <a:pt x="343691" y="1400"/>
                </a:lnTo>
                <a:lnTo>
                  <a:pt x="1400" y="1400"/>
                </a:lnTo>
                <a:close/>
              </a:path>
              <a:path fill="darken" w="345091" h="21600">
                <a:moveTo>
                  <a:pt x="345091" y="0"/>
                </a:moveTo>
                <a:lnTo>
                  <a:pt x="345091" y="21600"/>
                </a:lnTo>
                <a:lnTo>
                  <a:pt x="343691" y="20200"/>
                </a:lnTo>
                <a:lnTo>
                  <a:pt x="343691" y="1400"/>
                </a:lnTo>
                <a:close/>
              </a:path>
              <a:path fill="darkenLess" w="345091" h="21600">
                <a:moveTo>
                  <a:pt x="345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91" y="20200"/>
                </a:lnTo>
                <a:close/>
              </a:path>
              <a:path fill="lighten" w="345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7" name="Action Button: Custom 20">
            <a:hlinkClick r:id="rId16"/>
          </p:cNvPr>
          <p:cNvSpPr/>
          <p:nvPr/>
        </p:nvSpPr>
        <p:spPr>
          <a:xfrm>
            <a:off x="2362320" y="3200400"/>
            <a:ext cx="3047760" cy="304920"/>
          </a:xfrm>
          <a:custGeom>
            <a:avLst/>
            <a:gdLst>
              <a:gd name="textAreaLeft" fmla="*/ 19440 w 3047760"/>
              <a:gd name="textAreaRight" fmla="*/ 3028320 w 3047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5669" h="21600">
                <a:moveTo>
                  <a:pt x="0" y="0"/>
                </a:moveTo>
                <a:lnTo>
                  <a:pt x="215669" y="0"/>
                </a:lnTo>
                <a:lnTo>
                  <a:pt x="215669" y="21600"/>
                </a:lnTo>
                <a:lnTo>
                  <a:pt x="0" y="21600"/>
                </a:lnTo>
                <a:close/>
              </a:path>
              <a:path fill="lightenLess" w="215669" h="21600">
                <a:moveTo>
                  <a:pt x="0" y="0"/>
                </a:moveTo>
                <a:lnTo>
                  <a:pt x="215669" y="0"/>
                </a:lnTo>
                <a:lnTo>
                  <a:pt x="214269" y="1400"/>
                </a:lnTo>
                <a:lnTo>
                  <a:pt x="1400" y="1400"/>
                </a:lnTo>
                <a:close/>
              </a:path>
              <a:path fill="darken" w="215669" h="21600">
                <a:moveTo>
                  <a:pt x="215669" y="0"/>
                </a:moveTo>
                <a:lnTo>
                  <a:pt x="215669" y="21600"/>
                </a:lnTo>
                <a:lnTo>
                  <a:pt x="214269" y="20200"/>
                </a:lnTo>
                <a:lnTo>
                  <a:pt x="214269" y="1400"/>
                </a:lnTo>
                <a:close/>
              </a:path>
              <a:path fill="darkenLess" w="215669" h="21600">
                <a:moveTo>
                  <a:pt x="215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269" y="20200"/>
                </a:lnTo>
                <a:close/>
              </a:path>
              <a:path fill="lighten" w="215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Action Button: Custom 21">
            <a:hlinkClick r:id="rId17"/>
          </p:cNvPr>
          <p:cNvSpPr/>
          <p:nvPr/>
        </p:nvSpPr>
        <p:spPr>
          <a:xfrm>
            <a:off x="2743200" y="3581280"/>
            <a:ext cx="4191120" cy="228600"/>
          </a:xfrm>
          <a:custGeom>
            <a:avLst/>
            <a:gdLst>
              <a:gd name="textAreaLeft" fmla="*/ 14760 w 4191120"/>
              <a:gd name="textAreaRight" fmla="*/ 4176360 w 4191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95423" h="21600">
                <a:moveTo>
                  <a:pt x="0" y="0"/>
                </a:moveTo>
                <a:lnTo>
                  <a:pt x="395423" y="0"/>
                </a:lnTo>
                <a:lnTo>
                  <a:pt x="395423" y="21600"/>
                </a:lnTo>
                <a:lnTo>
                  <a:pt x="0" y="21600"/>
                </a:lnTo>
                <a:close/>
              </a:path>
              <a:path fill="lightenLess" w="395423" h="21600">
                <a:moveTo>
                  <a:pt x="0" y="0"/>
                </a:moveTo>
                <a:lnTo>
                  <a:pt x="395423" y="0"/>
                </a:lnTo>
                <a:lnTo>
                  <a:pt x="394023" y="1400"/>
                </a:lnTo>
                <a:lnTo>
                  <a:pt x="1400" y="1400"/>
                </a:lnTo>
                <a:close/>
              </a:path>
              <a:path fill="darken" w="395423" h="21600">
                <a:moveTo>
                  <a:pt x="395423" y="0"/>
                </a:moveTo>
                <a:lnTo>
                  <a:pt x="395423" y="21600"/>
                </a:lnTo>
                <a:lnTo>
                  <a:pt x="394023" y="20200"/>
                </a:lnTo>
                <a:lnTo>
                  <a:pt x="394023" y="1400"/>
                </a:lnTo>
                <a:close/>
              </a:path>
              <a:path fill="darkenLess" w="395423" h="21600">
                <a:moveTo>
                  <a:pt x="395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3" y="20200"/>
                </a:lnTo>
                <a:close/>
              </a:path>
              <a:path fill="lighten" w="395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Action Button: Custom 5">
            <a:hlinkClick r:id="rId3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3" name="Action Button: Custom 6"/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Action Button: Custom 7"/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 extensive library of free, search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room and professional develop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created by KET, WGBH-Bost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other PBS and national producers. </a:t>
            </a:r>
            <a:br>
              <a:rPr sz="20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are some of the resources that will be available in KET Teachers’ Domain this year: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 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ntucky’s Unbridled Learning PD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Scale City to Teach Proportional Reas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s of Highly Effective Teaching and Lear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Solu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T Arts and Culture Coll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ween the L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33" descr="Screen shot 2011-05-02 at 9"/>
          <p:cNvPicPr/>
          <p:nvPr/>
        </p:nvPicPr>
        <p:blipFill>
          <a:blip r:embed="rId1"/>
          <a:stretch/>
        </p:blipFill>
        <p:spPr>
          <a:xfrm>
            <a:off x="7848720" y="3200400"/>
            <a:ext cx="1110960" cy="3352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35" descr="Screen shot 2011-05-01 at 5"/>
          <p:cNvPicPr/>
          <p:nvPr/>
        </p:nvPicPr>
        <p:blipFill>
          <a:blip r:embed="rId2"/>
          <a:stretch/>
        </p:blipFill>
        <p:spPr>
          <a:xfrm>
            <a:off x="4876920" y="4800600"/>
            <a:ext cx="2666880" cy="15019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5105520" y="1371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Note: This service will become PBS Learning Media in July 2012)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105520" y="533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2" name="TextBox 5" descr=""/>
          <p:cNvPicPr/>
          <p:nvPr/>
        </p:nvPicPr>
        <p:blipFill>
          <a:blip r:embed="rId1"/>
          <a:stretch/>
        </p:blipFill>
        <p:spPr>
          <a:xfrm>
            <a:off x="30240" y="6126120"/>
            <a:ext cx="4389480" cy="579600"/>
          </a:xfrm>
          <a:prstGeom prst="rect">
            <a:avLst/>
          </a:prstGeom>
          <a:ln w="0">
            <a:noFill/>
          </a:ln>
        </p:spPr>
      </p:pic>
      <p:sp>
        <p:nvSpPr>
          <p:cNvPr id="253" name="Action Button: Custom 8"/>
          <p:cNvSpPr/>
          <p:nvPr/>
        </p:nvSpPr>
        <p:spPr>
          <a:xfrm>
            <a:off x="76320" y="6172200"/>
            <a:ext cx="3581280" cy="609480"/>
          </a:xfrm>
          <a:custGeom>
            <a:avLst/>
            <a:gdLst>
              <a:gd name="textAreaLeft" fmla="*/ 39240 w 3581280"/>
              <a:gd name="textAreaRight" fmla="*/ 3542040 w 358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26859" h="21600">
                <a:moveTo>
                  <a:pt x="0" y="0"/>
                </a:moveTo>
                <a:lnTo>
                  <a:pt x="126859" y="0"/>
                </a:lnTo>
                <a:lnTo>
                  <a:pt x="126859" y="21600"/>
                </a:lnTo>
                <a:lnTo>
                  <a:pt x="0" y="21600"/>
                </a:lnTo>
                <a:close/>
              </a:path>
              <a:path fill="lightenLess" w="126859" h="21600">
                <a:moveTo>
                  <a:pt x="0" y="0"/>
                </a:moveTo>
                <a:lnTo>
                  <a:pt x="126859" y="0"/>
                </a:lnTo>
                <a:lnTo>
                  <a:pt x="125459" y="1400"/>
                </a:lnTo>
                <a:lnTo>
                  <a:pt x="1400" y="1400"/>
                </a:lnTo>
                <a:close/>
              </a:path>
              <a:path fill="darken" w="126859" h="21600">
                <a:moveTo>
                  <a:pt x="126859" y="0"/>
                </a:moveTo>
                <a:lnTo>
                  <a:pt x="126859" y="21600"/>
                </a:lnTo>
                <a:lnTo>
                  <a:pt x="125459" y="20200"/>
                </a:lnTo>
                <a:lnTo>
                  <a:pt x="125459" y="1400"/>
                </a:lnTo>
                <a:close/>
              </a:path>
              <a:path fill="darkenLess" w="126859" h="21600">
                <a:moveTo>
                  <a:pt x="126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5459" y="20200"/>
                </a:lnTo>
                <a:close/>
              </a:path>
              <a:path fill="lighten" w="126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4" name="Picture 10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49388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2"/>
          <p:cNvSpPr/>
          <p:nvPr/>
        </p:nvSpPr>
        <p:spPr>
          <a:xfrm>
            <a:off x="732240" y="84240"/>
            <a:ext cx="759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KET Discovery Education</a:t>
            </a:r>
            <a:endParaRPr b="0" lang="en-US" sz="4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Curved Down Arrow 13"/>
          <p:cNvSpPr/>
          <p:nvPr/>
        </p:nvSpPr>
        <p:spPr>
          <a:xfrm>
            <a:off x="7620120" y="617220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Curved Down Arrow 14"/>
          <p:cNvSpPr/>
          <p:nvPr/>
        </p:nvSpPr>
        <p:spPr>
          <a:xfrm rot="10800000">
            <a:off x="7772400" y="6400440"/>
            <a:ext cx="838080" cy="304920"/>
          </a:xfrm>
          <a:custGeom>
            <a:avLst/>
            <a:gdLst>
              <a:gd name="textAreaLeft" fmla="*/ 180720 w 838080"/>
              <a:gd name="textAreaRight" fmla="*/ 619200 w 8380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28" hR="21600" stAng="10800000" swAng="5400000"/>
                <a:lnTo>
                  <a:pt x="11291" y="0"/>
                </a:lnTo>
                <a:arcTo wR="9328" hR="21600" stAng="-5400000" swAng="3547438"/>
                <a:lnTo>
                  <a:pt x="21304" y="16200"/>
                </a:lnTo>
                <a:lnTo>
                  <a:pt x="19637" y="21600"/>
                </a:lnTo>
                <a:lnTo>
                  <a:pt x="17377" y="16200"/>
                </a:lnTo>
                <a:lnTo>
                  <a:pt x="18359" y="16200"/>
                </a:lnTo>
                <a:arcTo wR="9328" hR="21600" stAng="-1852562" swAng="-3390464"/>
                <a:lnTo>
                  <a:pt x="10309" y="120"/>
                </a:lnTo>
                <a:arcTo wR="9328" hR="21600" stAng="-5556973" swAng="-5243027"/>
                <a:close/>
              </a:path>
              <a:path fill="darkenLess" w="21600" h="21600">
                <a:moveTo>
                  <a:pt x="0" y="21600"/>
                </a:moveTo>
                <a:arcTo wR="9328" hR="21600" stAng="10800000" swAng="5400000"/>
                <a:lnTo>
                  <a:pt x="9328" y="0"/>
                </a:lnTo>
                <a:arcTo wR="9328" hR="21600" stAng="-5400000" swAng="156973"/>
                <a:lnTo>
                  <a:pt x="10309" y="120"/>
                </a:lnTo>
                <a:arcTo wR="9328" hR="21600" stAng="-5556973" swAng="-5243027"/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8" name="Action Button: Custom 15"/>
          <p:cNvSpPr/>
          <p:nvPr/>
        </p:nvSpPr>
        <p:spPr>
          <a:xfrm>
            <a:off x="746748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1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Kentucky iTunes University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686800" cy="13716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152280" y="21337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T is collaborating with the Kentucky Department of Education , University of Kentucky  and other agencies to create the KY.P20/ NxGL media collection on iTunes University.  Some of the featured  resources on this service are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ryday Science for Preschooler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ter Solution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ntucky  Authors’ Foru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el V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ependent film seri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y M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ts seri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ealth 3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other health related documentari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wQuiz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y Lif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uisville Lif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 on this link to go directly to the collection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itunes.apple.com/us/institution/kentucky/id4118060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 can also simply go to the iTunes store and click on the “iTunes U” link, then click on “K-12” and finally click on the “Kentucky” collection. 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ED On Demand</a:t>
            </a:r>
            <a:br>
              <a:rPr sz="44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nline streaming of P-12 instructional programs for Kentucky public schools and teach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0" y="297144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300 hours of instructional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100 educational serie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50 episodes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ading Rainb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KET_ED_OnDemand"/>
          <p:cNvPicPr/>
          <p:nvPr/>
        </p:nvPicPr>
        <p:blipFill>
          <a:blip r:embed="rId1"/>
          <a:stretch/>
        </p:blipFill>
        <p:spPr>
          <a:xfrm>
            <a:off x="457200" y="3124080"/>
            <a:ext cx="4038480" cy="1762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link.png"/>
          <p:cNvPicPr/>
          <p:nvPr/>
        </p:nvPicPr>
        <p:blipFill>
          <a:blip r:embed="rId2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School Serv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800600" y="1295280"/>
            <a:ext cx="4343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dia Lab Workshop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deo Projec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media PD Ev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Workshop/Trainin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Education Blog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ool Visits/Consultation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T KY Blockfeed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8" name="Picture 5" descr="edconmap"/>
          <p:cNvPicPr/>
          <p:nvPr/>
        </p:nvPicPr>
        <p:blipFill>
          <a:blip r:embed="rId1"/>
          <a:stretch/>
        </p:blipFill>
        <p:spPr>
          <a:xfrm>
            <a:off x="304920" y="1828800"/>
            <a:ext cx="4419360" cy="1989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152280" y="3886200"/>
            <a:ext cx="4648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Education Consultan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askerville Old Face"/>
              </a:rPr>
              <a:t>www.ket.org/contact/education.htm </a:t>
            </a:r>
            <a:endParaRPr b="0" lang="en-US" sz="2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ET Media Lab Workshop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generous grant from AT&amp;T, KET now offer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rkshops for educators, students, and community organizations in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T Media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KET Network Center in Lexington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ings offered includ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enscreen Effects for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gle Resources for Edu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hop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It Yourself Electronic Field Tr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ing Stop-Motion Ani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 a Virtual Art Gall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ARTboard with KET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ore information, visi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ket.org/education/medialab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6" descr="mlab_cwarner1.jpg"/>
          <p:cNvPicPr/>
          <p:nvPr/>
        </p:nvPicPr>
        <p:blipFill>
          <a:blip r:embed="rId1"/>
          <a:stretch/>
        </p:blipFill>
        <p:spPr>
          <a:xfrm>
            <a:off x="5407200" y="1676520"/>
            <a:ext cx="3279600" cy="2128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Screen shot 2011-05-02 at 2"/>
          <p:cNvPicPr/>
          <p:nvPr/>
        </p:nvPicPr>
        <p:blipFill>
          <a:blip r:embed="rId2"/>
          <a:stretch/>
        </p:blipFill>
        <p:spPr>
          <a:xfrm>
            <a:off x="5181480" y="4191120"/>
            <a:ext cx="3778200" cy="230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600"/>
            <a:ext cx="853416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er today is:  Larry Mo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28600" y="213372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ay’s presentation is practically paper-free!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 more information about the resources presented today, go to this website: http://www.lmooreketresources.wikispaces.com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Action Button: Custom 7">
            <a:hlinkClick r:id="rId1"/>
          </p:cNvPr>
          <p:cNvSpPr/>
          <p:nvPr/>
        </p:nvSpPr>
        <p:spPr>
          <a:xfrm>
            <a:off x="246240" y="2133720"/>
            <a:ext cx="7924680" cy="1218960"/>
          </a:xfrm>
          <a:custGeom>
            <a:avLst/>
            <a:gdLst>
              <a:gd name="textAreaLeft" fmla="*/ 78840 w 7924680"/>
              <a:gd name="textAreaRight" fmla="*/ 7845840 w 79246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140390" h="21600">
                <a:moveTo>
                  <a:pt x="0" y="0"/>
                </a:moveTo>
                <a:lnTo>
                  <a:pt x="140390" y="0"/>
                </a:lnTo>
                <a:lnTo>
                  <a:pt x="140390" y="21600"/>
                </a:lnTo>
                <a:lnTo>
                  <a:pt x="0" y="21600"/>
                </a:lnTo>
                <a:close/>
              </a:path>
              <a:path fill="lightenLess" w="140390" h="21600">
                <a:moveTo>
                  <a:pt x="0" y="0"/>
                </a:moveTo>
                <a:lnTo>
                  <a:pt x="140390" y="0"/>
                </a:lnTo>
                <a:lnTo>
                  <a:pt x="138990" y="1400"/>
                </a:lnTo>
                <a:lnTo>
                  <a:pt x="1400" y="1400"/>
                </a:lnTo>
                <a:close/>
              </a:path>
              <a:path fill="darken" w="140390" h="21600">
                <a:moveTo>
                  <a:pt x="140390" y="0"/>
                </a:moveTo>
                <a:lnTo>
                  <a:pt x="140390" y="21600"/>
                </a:lnTo>
                <a:lnTo>
                  <a:pt x="138990" y="20200"/>
                </a:lnTo>
                <a:lnTo>
                  <a:pt x="138990" y="1400"/>
                </a:lnTo>
                <a:close/>
              </a:path>
              <a:path fill="darkenLess" w="140390" h="21600">
                <a:moveTo>
                  <a:pt x="140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990" y="20200"/>
                </a:lnTo>
                <a:close/>
              </a:path>
              <a:path fill="lighten" w="140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0" y="22212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61616"/>
                </a:solidFill>
                <a:latin typeface="Agency FB"/>
              </a:rPr>
              <a:t>Exploring the Depths! KET’s New Online Resources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2" name="Picture 8" descr="C:\Documents and Settings\larry.moore.KET\Local Settings\Temporary Internet Files\Content.IE5\SZCA89FD\MC900390686[1].wmf"/>
          <p:cNvPicPr/>
          <p:nvPr/>
        </p:nvPicPr>
        <p:blipFill>
          <a:blip r:embed="rId2"/>
          <a:stretch/>
        </p:blipFill>
        <p:spPr>
          <a:xfrm>
            <a:off x="-76320" y="3992400"/>
            <a:ext cx="3200400" cy="2697480"/>
          </a:xfrm>
          <a:prstGeom prst="rect">
            <a:avLst/>
          </a:prstGeom>
          <a:ln w="0">
            <a:noFill/>
          </a:ln>
        </p:spPr>
      </p:pic>
      <p:sp>
        <p:nvSpPr>
          <p:cNvPr id="183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3276720" y="459108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1066680" y="419724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0" name="Oval 16"/>
          <p:cNvSpPr/>
          <p:nvPr/>
        </p:nvSpPr>
        <p:spPr>
          <a:xfrm>
            <a:off x="1327320" y="3505320"/>
            <a:ext cx="215640" cy="212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130400" y="39625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1251000" y="37609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2514600" y="35053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www.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ction Button: Custom 2">
            <a:hlinkClick r:id="rId3"/>
          </p:cNvPr>
          <p:cNvSpPr/>
          <p:nvPr/>
        </p:nvSpPr>
        <p:spPr>
          <a:xfrm>
            <a:off x="2514600" y="3435480"/>
            <a:ext cx="6019920" cy="527040"/>
          </a:xfrm>
          <a:custGeom>
            <a:avLst/>
            <a:gdLst>
              <a:gd name="textAreaLeft" fmla="*/ 33840 w 6019920"/>
              <a:gd name="textAreaRight" fmla="*/ 5986080 w 6019920"/>
              <a:gd name="textAreaTop" fmla="*/ 33840 h 527040"/>
              <a:gd name="textAreaBottom" fmla="*/ 493200 h 527040"/>
            </a:gdLst>
            <a:ahLst/>
            <a:rect l="textAreaLeft" t="textAreaTop" r="textAreaRight" b="textAreaBottom"/>
            <a:pathLst>
              <a:path w="246564" h="21600">
                <a:moveTo>
                  <a:pt x="0" y="0"/>
                </a:moveTo>
                <a:lnTo>
                  <a:pt x="246564" y="0"/>
                </a:lnTo>
                <a:lnTo>
                  <a:pt x="246564" y="21600"/>
                </a:lnTo>
                <a:lnTo>
                  <a:pt x="0" y="21600"/>
                </a:lnTo>
                <a:close/>
              </a:path>
              <a:path fill="lightenLess" w="246564" h="21600">
                <a:moveTo>
                  <a:pt x="0" y="0"/>
                </a:moveTo>
                <a:lnTo>
                  <a:pt x="246564" y="0"/>
                </a:lnTo>
                <a:lnTo>
                  <a:pt x="245164" y="1400"/>
                </a:lnTo>
                <a:lnTo>
                  <a:pt x="1400" y="1400"/>
                </a:lnTo>
                <a:close/>
              </a:path>
              <a:path fill="darken" w="246564" h="21600">
                <a:moveTo>
                  <a:pt x="246564" y="0"/>
                </a:moveTo>
                <a:lnTo>
                  <a:pt x="246564" y="21600"/>
                </a:lnTo>
                <a:lnTo>
                  <a:pt x="245164" y="20200"/>
                </a:lnTo>
                <a:lnTo>
                  <a:pt x="245164" y="1400"/>
                </a:lnTo>
                <a:close/>
              </a:path>
              <a:path fill="darkenLess" w="246564" h="21600">
                <a:moveTo>
                  <a:pt x="246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64" y="20200"/>
                </a:lnTo>
                <a:close/>
              </a:path>
              <a:path fill="lighten" w="246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Effective Use Of Video Learning Objects in Your Classroom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boy at aquarium.jpg"/>
          <p:cNvPicPr/>
          <p:nvPr/>
        </p:nvPicPr>
        <p:blipFill>
          <a:blip r:embed="rId1"/>
          <a:stretch/>
        </p:blipFill>
        <p:spPr>
          <a:xfrm>
            <a:off x="2438280" y="3200400"/>
            <a:ext cx="4191120" cy="3111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4"/>
          <p:cNvSpPr/>
          <p:nvPr/>
        </p:nvSpPr>
        <p:spPr>
          <a:xfrm>
            <a:off x="2514600" y="58672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y Watching Sharks in Aquari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  Corbis, 2011. Ima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5 February 2011. &lt;http://www.discoveryeducation.com/&gt;. 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The Proces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view activity to introduc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cu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llow-up: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76240" y="1371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 and for what they are responsi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338640" y="152280"/>
            <a:ext cx="246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rame</a:t>
            </a:r>
            <a:endParaRPr b="0" lang="en-US" sz="6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5" name="Picture 3" descr="C:\Documents and Settings\larry.moore.KET\Local Settings\Temporary Internet Files\Content.IE5\L9NC444U\MP900407401[1].jpg"/>
          <p:cNvPicPr/>
          <p:nvPr/>
        </p:nvPicPr>
        <p:blipFill>
          <a:blip r:embed="rId1"/>
          <a:stretch/>
        </p:blipFill>
        <p:spPr>
          <a:xfrm>
            <a:off x="6400800" y="3581280"/>
            <a:ext cx="2362320" cy="29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cu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 and point out important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 organizers, etc. 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C:\Documents and Settings\larry.moore.KET\Local Settings\Temporary Internet Files\Content.IE5\L9NC444U\MP900438755[1].jpg"/>
          <p:cNvPicPr/>
          <p:nvPr/>
        </p:nvPicPr>
        <p:blipFill>
          <a:blip r:embed="rId1"/>
          <a:stretch/>
        </p:blipFill>
        <p:spPr>
          <a:xfrm>
            <a:off x="6400800" y="4572000"/>
            <a:ext cx="2562120" cy="192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Follow-up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7596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the media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ther modalities throug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kinesthetic and immersion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girl with camera Flickr chrissschuepp.jpg"/>
          <p:cNvPicPr/>
          <p:nvPr/>
        </p:nvPicPr>
        <p:blipFill>
          <a:blip r:embed="rId1"/>
          <a:stretch/>
        </p:blipFill>
        <p:spPr>
          <a:xfrm>
            <a:off x="6302520" y="1143000"/>
            <a:ext cx="2679480" cy="1981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6257160" y="312408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lickrCreativeCommons by chrisschuepp</a:t>
            </a: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214" name="Action Button: Custom 8">
            <a:hlinkClick r:id="rId2"/>
          </p:cNvPr>
          <p:cNvSpPr/>
          <p:nvPr/>
        </p:nvSpPr>
        <p:spPr>
          <a:xfrm>
            <a:off x="1600200" y="6095880"/>
            <a:ext cx="6553080" cy="685800"/>
          </a:xfrm>
          <a:custGeom>
            <a:avLst/>
            <a:gdLst>
              <a:gd name="textAreaLeft" fmla="*/ 44280 w 6553080"/>
              <a:gd name="textAreaRight" fmla="*/ 6508800 w 6553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06299" h="21600">
                <a:moveTo>
                  <a:pt x="0" y="0"/>
                </a:moveTo>
                <a:lnTo>
                  <a:pt x="206299" y="0"/>
                </a:lnTo>
                <a:lnTo>
                  <a:pt x="206299" y="21600"/>
                </a:lnTo>
                <a:lnTo>
                  <a:pt x="0" y="21600"/>
                </a:lnTo>
                <a:close/>
              </a:path>
              <a:path fill="lightenLess" w="206299" h="21600">
                <a:moveTo>
                  <a:pt x="0" y="0"/>
                </a:moveTo>
                <a:lnTo>
                  <a:pt x="206299" y="0"/>
                </a:lnTo>
                <a:lnTo>
                  <a:pt x="204899" y="1400"/>
                </a:lnTo>
                <a:lnTo>
                  <a:pt x="1400" y="1400"/>
                </a:lnTo>
                <a:close/>
              </a:path>
              <a:path fill="darken" w="206299" h="21600">
                <a:moveTo>
                  <a:pt x="206299" y="0"/>
                </a:moveTo>
                <a:lnTo>
                  <a:pt x="206299" y="21600"/>
                </a:lnTo>
                <a:lnTo>
                  <a:pt x="204899" y="20200"/>
                </a:lnTo>
                <a:lnTo>
                  <a:pt x="204899" y="1400"/>
                </a:lnTo>
                <a:close/>
              </a:path>
              <a:path fill="darkenLess" w="206299" h="21600">
                <a:moveTo>
                  <a:pt x="206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99" y="20200"/>
                </a:lnTo>
                <a:close/>
              </a:path>
              <a:path fill="lighten" w="206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600200" y="6095520"/>
            <a:ext cx="64008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KET.ORG/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"/>
          <p:cNvSpPr/>
          <p:nvPr/>
        </p:nvSpPr>
        <p:spPr>
          <a:xfrm>
            <a:off x="2666880" y="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et’s Explore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99720"/>
            <a:ext cx="853452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ssion US: For Crown or Colony (Gr. 5-8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ww.mission-u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20" name="Action Button: Custom 3">
            <a:hlinkClick r:id="rId3"/>
          </p:cNvPr>
          <p:cNvSpPr/>
          <p:nvPr/>
        </p:nvSpPr>
        <p:spPr>
          <a:xfrm>
            <a:off x="2362320" y="609480"/>
            <a:ext cx="4495680" cy="533520"/>
          </a:xfrm>
          <a:custGeom>
            <a:avLst/>
            <a:gdLst>
              <a:gd name="textAreaLeft" fmla="*/ 34560 w 4495680"/>
              <a:gd name="textAreaRight" fmla="*/ 4461120 w 4495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81903" h="21600">
                <a:moveTo>
                  <a:pt x="0" y="0"/>
                </a:moveTo>
                <a:lnTo>
                  <a:pt x="181903" y="0"/>
                </a:lnTo>
                <a:lnTo>
                  <a:pt x="181903" y="21600"/>
                </a:lnTo>
                <a:lnTo>
                  <a:pt x="0" y="21600"/>
                </a:lnTo>
                <a:close/>
              </a:path>
              <a:path fill="lightenLess" w="181903" h="21600">
                <a:moveTo>
                  <a:pt x="0" y="0"/>
                </a:moveTo>
                <a:lnTo>
                  <a:pt x="181903" y="0"/>
                </a:lnTo>
                <a:lnTo>
                  <a:pt x="180503" y="1400"/>
                </a:lnTo>
                <a:lnTo>
                  <a:pt x="1400" y="1400"/>
                </a:lnTo>
                <a:close/>
              </a:path>
              <a:path fill="darken" w="181903" h="21600">
                <a:moveTo>
                  <a:pt x="181903" y="0"/>
                </a:moveTo>
                <a:lnTo>
                  <a:pt x="181903" y="21600"/>
                </a:lnTo>
                <a:lnTo>
                  <a:pt x="180503" y="20200"/>
                </a:lnTo>
                <a:lnTo>
                  <a:pt x="180503" y="1400"/>
                </a:lnTo>
                <a:close/>
              </a:path>
              <a:path fill="darkenLess" w="181903" h="21600">
                <a:moveTo>
                  <a:pt x="181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0503" y="20200"/>
                </a:lnTo>
                <a:close/>
              </a:path>
              <a:path fill="lighten" w="181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2-04-09T17:19:29Z</dcterms:modified>
  <cp:revision>538</cp:revision>
  <dc:subject/>
  <dc:title>Slide 1</dc:title>
</cp:coreProperties>
</file>